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626-4A04-4BFD-A3B7-B9D7651C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6C5-EEA0-4706-A272-1D3FC2C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210-FD2F-40D8-A33F-93ABAE7D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22D-76FC-4F03-9FF1-156686EF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F31-CF11-4155-A57D-B47A529C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FA3-8D7E-4A31-B66B-7A41A38F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540-A40E-4EDF-B150-5BFEC0AA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9AA-9760-4B29-8540-1D17A2D7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7B9-DEFB-419A-B7A2-7622B3D4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4D2-18DB-4AEF-AA73-DE8DE68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E57-F523-4A21-9952-5128D40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3E1-03BE-4A05-BDFE-52C732DE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7ABF-FD89-4A5A-A24C-4D82C8D5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22cvjsssRhap_ph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33520"/>
            <a:ext cx="8534520" cy="81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مهيّا                                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غارة                                     شمس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                                     نورن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ملي                                    وملي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ارة                                     حر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560" descr=""/>
          <p:cNvPicPr/>
          <p:nvPr/>
        </p:nvPicPr>
        <p:blipFill>
          <a:blip r:embed="rId1"/>
          <a:stretch/>
        </p:blipFill>
        <p:spPr>
          <a:xfrm>
            <a:off x="-304920" y="0"/>
            <a:ext cx="66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1143000"/>
            <a:ext cx="25146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ضلك طل عليي   لا تكون عني ب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حة وجودك فيي  مثل ليالي الع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7098384zGTmZv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1600200"/>
            <a:ext cx="335268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يامي حلّيها     وضوي هالعتم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فافي روّيها  من أصفى البس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457200"/>
            <a:ext cx="175248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قياس المحبة   نحب بلا مقيا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ليني يا ربي    مثلك حب الناس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0:15:08Z</dcterms:created>
  <dc:creator>SUZANNE.MD</dc:creator>
  <dc:description/>
  <dc:language>en-US</dc:language>
  <cp:lastModifiedBy>SUZANNE.MD</cp:lastModifiedBy>
  <dcterms:modified xsi:type="dcterms:W3CDTF">2002-12-09T06:29:49Z</dcterms:modified>
  <cp:revision>2</cp:revision>
  <dc:subject/>
  <dc:title>PowerPoint Presentation</dc:title>
</cp:coreProperties>
</file>